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259E1-FC7E-4826-A1FB-0570A2CA9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94798-0D42-4A72-B01B-6D8B80F9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625BA-5CC0-4370-8908-E2E12B70E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C3A4A-9ECB-4A59-9C42-4E99863E4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5CBA-B5B6-4B15-88E7-1AEBA4569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E27F-F6D1-4FD4-95D1-13F6E607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EC3C-A8F2-429F-9546-E0C03675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2B0A-21B7-407C-A712-17B803AB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0BCCF-52B4-4D75-91E6-6BE17AF9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966E8-FA5E-4462-882D-CCCAB47E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B480-137D-46C0-9A64-9A3C22A8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9C369-5B61-4A92-84C9-098B693C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7071B-5FDA-4912-9889-2AF1A279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9878-97F3-4A98-BCBF-78699068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2AA69-8677-4B21-85D9-175CB570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D026-A9F2-4B73-AC46-057AE5A7D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E308-BA63-4A25-91FB-416D6E4FB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7C29C-19B9-4525-B039-25004986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F5B94-0DA6-4DB3-B3C5-159BF9ED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A06CF-67AD-4461-BAE1-A7716CBE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DE3CE-9849-42C9-A60B-0479BFB8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A565D-37DA-4F2E-B560-0E60B20B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5D7DB-8BB1-47BD-A4B1-6BA1F8E0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A8C76-282C-4D0A-BE13-03E7656A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9282-075B-473E-A9A5-7DBDFC250DBB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FBDF-267C-40EB-96F1-0351C76A580B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229680"/>
            <a:ext cx="95774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5 (665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Свети Отче, Ти ме учиш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а живея все з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еб и от ден на ден ме храниш, даваш ми насъщний хляб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[: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Аз бях скитник - Ти ме върн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в съмнение озари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войта мишца ме прегърн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лахи стъпки ободри!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530640"/>
            <a:ext cx="100821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ука врагове нападат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безпощадно всеки ден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ърсят те да ме погубят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че по-силни са от мен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[: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о разчитам, Боже крепк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се на помощта Твоя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и оправяй моите стъпк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ерен Теб да устоя!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531360"/>
            <a:ext cx="957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 Позволи да се облягам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се на Твоята рък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воите истини да следвам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е опазват от бед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[: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ай във всяко изкушени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да Те търся, Отче мой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по свято наставлени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се да ходя в пътя Твой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:]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5-01T15:28:49Z</dcterms:modified>
  <cp:revision>150</cp:revision>
  <dc:subject/>
  <dc:title>Slide 1</dc:title>
</cp:coreProperties>
</file>